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7A0A-6D09-450B-89DB-1DF2A4485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8D85-F80C-42A2-8456-88C4DD6F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3EA6-87E0-4C40-9F6C-DD339E61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12A-57B4-4E16-AD1F-116E2DA1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012-BF5E-4278-9CCC-B999862B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F66-3863-4455-9AB9-3F631A9C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5A0-A835-4401-A5F7-C903F9A4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B77-6AD9-43EC-8146-B56369FD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010-CF0D-46C6-A0C4-3F5C9698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B6C-8B75-410D-BE51-D8BF65B7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5B4-EB21-45D8-902C-3B7A12F4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1E8-C8FB-49A3-A21D-1B94762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F3B-49CA-4780-B482-E81FF1D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BFB-918D-4357-9C71-9B4C195C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1FE-2995-4BB7-8845-ACB5CAC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69BE-F25D-45AB-B9EF-0BB94FE82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chc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, Holly Ha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an R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 L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ry R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someone up and throwing them into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s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n’t a witch, but they were d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floated? (like a c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a wi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time, the accused person would struggle and flail around in the water so they’d break free and swim to the top of the water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had a “witchma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like a mole, wart, or discoloration of 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itchmark” was considered to be where the devil touche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would poke them with a needle-like object on their “witchmark” and if they felt no pain then they were  said to be a 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bleed then they were inno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of a low social status then people sometimes thought that they could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witches we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a studier of medicine, then people thought that they might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tional punishment for convicted witches was being burned at the stake. This started in Europe in the witch 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was known for hanging their witches as well as burn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England forbade it, Scotland sanctioned the torturing of witches in order to receive conf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ing method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walking or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ng, the act of putting a board on the body and putting weight on it, wa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Witch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ed in Chelmsford, Essex England during 15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 about as a result of pressure from the ch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trial to be written up in a pamphl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Frances used a cat to inflict harm on Agnes Waterhouse and her daughter Jo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was found guilty and put in jail while Agnes was h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witchh.gif"/>
          <p:cNvPicPr/>
          <p:nvPr/>
        </p:nvPicPr>
        <p:blipFill>
          <a:blip r:embed="rId1"/>
          <a:stretch/>
        </p:blipFill>
        <p:spPr>
          <a:xfrm>
            <a:off x="5562720" y="1295280"/>
            <a:ext cx="29718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d in Salem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2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were accused of witchcraft and 200 were put in j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uba, Sarah Good, and Sarah Osbourne were accused of witchcraft and thrown in jail due to Tituba’s con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Owner\AppData\Local\Microsoft\Windows\Temporary Internet Files\Content.IE5\FTPW0WSL\MC900436216[1].png"/>
          <p:cNvPicPr/>
          <p:nvPr/>
        </p:nvPicPr>
        <p:blipFill>
          <a:blip r:embed="rId1"/>
          <a:stretch/>
        </p:blipFill>
        <p:spPr>
          <a:xfrm>
            <a:off x="38088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Owner\AppData\Local\Microsoft\Windows\Temporary Internet Files\Content.IE5\XOZAUS8J\MC900027392[1].wmf"/>
          <p:cNvPicPr/>
          <p:nvPr/>
        </p:nvPicPr>
        <p:blipFill>
          <a:blip r:embed="rId2"/>
          <a:stretch/>
        </p:blipFill>
        <p:spPr>
          <a:xfrm>
            <a:off x="6858000" y="914400"/>
            <a:ext cx="1908000" cy="149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witch.jpg"/>
          <p:cNvPicPr/>
          <p:nvPr/>
        </p:nvPicPr>
        <p:blipFill>
          <a:blip r:embed="rId3"/>
          <a:stretch/>
        </p:blipFill>
        <p:spPr>
          <a:xfrm>
            <a:off x="2819520" y="3962520"/>
            <a:ext cx="32004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witchcraf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agreement hasn’t been reached on what witchcraft was, or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3 definitions that can be used to understand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craft, a form of sorcery, or the magical manipulation of nature for self-aggrandizement, or for the benefit or harm of a client. This manipulation often involves the use of spirit-helpers, or familia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olonists defined witchcraft as “the use of supernatural power, usually but not always for har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tches were considered h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ir powers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some humans were darkly unnatural and possessed supernatural 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sed witches were said to abuse their powers by wreaking havoc o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e for why witchcraft was used was how the term wa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ood witchcraft as a relationship between a human being and the dev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ed for evidence of this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elling Puritans of the pain they felt when warding of Satan’s attempt to lure them they gave useful evidence for thei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ans believe New England witch-craft as a way to express social and cultural anxieties among accusers rather than the harm the accused was ac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, religion, and psychology lent bias to deciphering the meanings of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aw them performing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dmitted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HRomero1993\AppData\Local\Microsoft\Windows\Temporary Internet Files\Content.IE5\DU3GFPBJ\MC900436109[1].wmf"/>
          <p:cNvPicPr/>
          <p:nvPr/>
        </p:nvPicPr>
        <p:blipFill>
          <a:blip r:embed="rId1"/>
          <a:stretch/>
        </p:blipFill>
        <p:spPr>
          <a:xfrm>
            <a:off x="2057400" y="2819520"/>
            <a:ext cx="4648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6524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id they determine who were witches (cont’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1371240"/>
            <a:ext cx="5111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s” are given to them by the d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 that wreaked havoc on the surround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ly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familiars"/>
          <p:cNvPicPr/>
          <p:nvPr/>
        </p:nvPicPr>
        <p:blipFill>
          <a:blip r:embed="rId1"/>
          <a:stretch/>
        </p:blipFill>
        <p:spPr>
          <a:xfrm>
            <a:off x="457200" y="1371600"/>
            <a:ext cx="3017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3:55:24Z</dcterms:created>
  <dc:creator>aps13.romeiva</dc:creator>
  <dc:description/>
  <dc:language>en-US</dc:language>
  <cp:lastModifiedBy>Daniel D. Robson</cp:lastModifiedBy>
  <dcterms:modified xsi:type="dcterms:W3CDTF">2011-10-25T01:34:03Z</dcterms:modified>
  <cp:revision>29</cp:revision>
  <dc:subject/>
  <dc:title>Witchcraft</dc:title>
</cp:coreProperties>
</file>